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732-741B-47EF-A74B-D8307AAC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CDF-9F0C-4079-885E-8DDA727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E89-C76D-4AEB-B441-F6020964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F45-2034-425F-9753-98D662B6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A8A8-E7E6-4ED4-8CA9-BA6DC89E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CA22-D4DD-408B-A5B3-A57E2592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FE36-07E4-4BCE-A1C3-F633C96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013B-D675-457D-BD09-C4DA627E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B8C4-7FA2-49B7-B12A-EE76B4D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AA84-CEDB-4701-9833-65FB0D3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AB11-D168-4E5B-9D0A-94CF25F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44F-207A-49AC-A355-1A28394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1704-0F52-499E-A293-3B694D9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6A37-CCD9-4933-A66F-F3ABE0C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FADA-75B4-47BB-9509-9549413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57C6-18B0-4C5A-88FA-FE0200DD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FD0A-05E2-43B5-B44B-BF832740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CA1-732D-40CB-8F87-C8D8659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FB4-160D-4B08-BC8E-F2D94E6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77D-7EDB-431C-B36B-E88E56D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654-31EB-441C-A1CA-BDA8C24A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F97-31F4-47B8-AE15-549941D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3F1-1967-49DE-B2DF-A9E0A62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4DE-A831-4185-A024-C728D7B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634-B146-430C-9E62-007CB2A148D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4E0-962F-49D0-B08A-ABDEB4085C8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roadway"/>
              </a:rPr>
              <a:t>CHARACTE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haracter is a person or other figure that is part of a sto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a Character is Develop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five basic ways in which a writer reveals what a character is lik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CHARACTER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writer states directly what the character is like.           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Anna was small and fragile looking, but she had immense courage and independe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NDIRECT CHARACTERIZA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writer gives the actual speech of the characte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“I’m afraid, but I’ll do it anyway,” said Ann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65b2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reveals what the character is thinking and feeling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As the cold water of the lake wrapped around her legs, Anna trembled at the memory of last summer’s accid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69562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tells about the character’s actions.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With determined effort, Anna managed to get the rowboat into the lake and clamber aboar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c5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The writer tells how other characters respond to the charac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:  Beth watched from the shore, knowing it was impossible to stop Anna once she had decided to do something.  “She’s so stubborn!” Beth though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07:54Z</dcterms:created>
  <dc:creator>nbdoe</dc:creator>
  <dc:description/>
  <dc:language>en-US</dc:language>
  <cp:lastModifiedBy>nbdoe</cp:lastModifiedBy>
  <dcterms:modified xsi:type="dcterms:W3CDTF">2007-10-10T22:19:04Z</dcterms:modified>
  <cp:revision>3</cp:revision>
  <dc:subject/>
  <dc:title>CHARACTER</dc:title>
</cp:coreProperties>
</file>